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371104"/>
        <c:axId val="43944138"/>
      </c:barChart>
      <c:catAx>
        <c:axId val="933711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44138"/>
        <c:crosses val="autoZero"/>
        <c:auto val="1"/>
        <c:lblAlgn val="ctr"/>
        <c:lblOffset val="100"/>
        <c:noMultiLvlLbl val="0"/>
      </c:catAx>
      <c:valAx>
        <c:axId val="439441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711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7734-A822-4DB5-ADB8-AA416103B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251B-3285-4D52-835E-D7CF6E07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9862-0BE3-4B6C-AA7E-9D7FFA337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58F5-2F07-4680-B8CA-0C6D571A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579B-CB99-4989-9699-06DAB710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A5EA-8415-46D1-935D-2BF6CB9E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4F2A-343B-40EA-A2E0-B8CF6182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017A-A2AC-4EC0-8A6F-C66F4653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73C1-2A58-48BB-A777-597EBD00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0BEA-3506-4D5A-8373-86A04B5D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9EE9-3714-43E3-9026-B4569C13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BD87-4CE7-4926-9DCA-976A3018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08B1D-2FCF-4D62-9BD1-BF98DBA663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