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28726"/>
        <c:axId val="32703211"/>
      </c:barChart>
      <c:catAx>
        <c:axId val="46728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03211"/>
        <c:crosses val="autoZero"/>
        <c:auto val="1"/>
        <c:lblAlgn val="ctr"/>
        <c:lblOffset val="100"/>
        <c:noMultiLvlLbl val="0"/>
      </c:catAx>
      <c:valAx>
        <c:axId val="327032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28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8468-9AA3-47DF-B81D-DBB674B3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754-B877-430B-8779-4B59275E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777D-F273-4E76-B1CB-0580262D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13B-A463-401E-BABC-07AEAF3F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879-5B61-4756-803D-5F879E0E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3C58-B993-4680-9E49-466469A8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858A-C555-4B47-835C-69A7348B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101-C536-49B3-A1D7-BFC5DA04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26C8-1D59-435C-9F97-629D4430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ECE-F4E0-4714-9580-03A44E22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407-75B7-480F-AB47-B3715D69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858-227C-4887-8821-AC223F4D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7E8B1-973A-44CB-82FF-FF9115F5B8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