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91746"/>
        <c:axId val="92272932"/>
      </c:barChart>
      <c:catAx>
        <c:axId val="37091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72932"/>
        <c:crosses val="autoZero"/>
        <c:auto val="1"/>
        <c:lblAlgn val="ctr"/>
        <c:lblOffset val="100"/>
        <c:noMultiLvlLbl val="0"/>
      </c:catAx>
      <c:valAx>
        <c:axId val="92272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91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488-E732-4CA7-8155-A3AA9643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719-8D89-4F5D-8E32-1A2695D0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809-80B1-4E73-85AD-9BA06DEE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2C0-7708-4879-A064-5DEFDA22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667-8427-4D0D-9FEA-0C336DF9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2A4-4E10-4351-B28E-CC240087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4F9-654B-421A-A74A-D5512D4C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CE2-F281-409A-8DA5-FB73B9DB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751-5CF8-43AF-BEE2-6C901571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1C4-2ABF-446F-8C3F-1B16B640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584-92FC-47AB-9FA3-10F69210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4E2-6B40-42C1-B194-CCE3C2CA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85AA9-7ED4-495B-929A-450E7A8AA4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